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95EA-7A25-4B87-89C4-3DECA2299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24C6-2B0B-4699-85DF-B73FC44F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E29-4678-4BA8-A75D-852B30FBF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B702-56A0-4F58-A4E4-2D612AAED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615-48CB-48E8-9742-9A00DB59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207-DD33-4D3B-AC70-EF05D9EE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A99-B539-479E-8E33-62C6660B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9A6E-0C04-40AA-A9D2-BE09C5B6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9037-886B-4593-821F-4D1D8E79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E4A2-A893-4391-8414-071B383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905-0D5A-473A-842B-B1FE97CF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5D34-03CE-44FE-B39F-2C0729B5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1B8F-4723-41C6-AEE2-C7B9AB74C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0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47840" y="1143000"/>
            <a:ext cx="46483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dioms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2590920" y="388620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rdo Mo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ve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lholland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. F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34320" y="1600200"/>
            <a:ext cx="1158840" cy="18288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38480" y="762120"/>
            <a:ext cx="2151360" cy="995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51560"/>
            <a:ext cx="406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56549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000"/>
            </a:gs>
            <a:gs pos="50000">
              <a:srgbClr val="ffff00"/>
            </a:gs>
            <a:gs pos="100000">
              <a:srgbClr val="ff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"/>
              </a:rPr>
              <a:t>Reading 1.1 Identify idioms, analogies, metaphors and similes in prose and po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860480" y="533520"/>
            <a:ext cx="5226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36147" dir="2700000" blurRad="0" rotWithShape="0">
                    <a:srgbClr val="990000"/>
                  </a:outerShdw>
                </a:effectLst>
                <a:latin typeface="Impact"/>
              </a:rPr>
              <a:t>Table of Contents</a:t>
            </a:r>
            <a:endParaRPr b="0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36147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0890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1: Titl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2:Learn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3:Table of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4:About th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5:Authors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6:Idiom 1:Cat out of the B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7:Idiom 2:Cat Got Your To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8:Idiom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e9:Idiom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000"/>
            </a:gs>
            <a:gs pos="50000">
              <a:srgbClr val="4d0808"/>
            </a:gs>
            <a:gs pos="100000">
              <a:srgbClr val="ff8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133720" y="609480"/>
            <a:ext cx="4103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6147" dir="2700000" blurRad="0" rotWithShape="0">
                    <a:srgbClr val="875b0d"/>
                  </a:outerShdw>
                </a:effectLst>
                <a:latin typeface="Arial Black"/>
              </a:rPr>
              <a:t>Cat out of the Bag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6147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752480"/>
            <a:ext cx="2362320" cy="1560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2187720" cy="2187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09480" y="4952880"/>
            <a:ext cx="7391520" cy="11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/>
                  </a:outerShdw>
                </a:effectLst>
                <a:latin typeface="American Typewriter"/>
              </a:rPr>
              <a:t>I'M GGGGGGAY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36147" dir="2700000" blurRad="0" rotWithShape="0">
                  <a:srgbClr val="c0c0c0"/>
                </a:outerShdw>
              </a:effectLst>
              <a:latin typeface="American Typewriter"/>
              <a:ea typeface="American Typewriter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00200" y="621036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36147" dir="2700000" blurRad="0" rotWithShape="0">
                    <a:srgbClr val="875b0d"/>
                  </a:outerShdw>
                </a:effectLst>
                <a:latin typeface="Arial Black"/>
              </a:rPr>
              <a:t>LOVE, GAR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36147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s Angeles Unified School District</cp:lastModifiedBy>
  <dcterms:modified xsi:type="dcterms:W3CDTF">2007-02-08T22:41:01Z</dcterms:modified>
  <cp:revision>4</cp:revision>
  <dc:subject/>
  <dc:title>PowerPoint Presentation</dc:title>
</cp:coreProperties>
</file>